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D25-7626-498D-828E-4FFBEFED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31E-7CA0-496E-864D-EFCAAEBD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6006-F5AC-4319-8601-30EB3FED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4A72-5321-4D47-A456-44737CAF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0D5-26C7-48E5-B8C8-3FFC2666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A1F6-8CB1-4910-AFCD-A5B3B822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389-C8E3-4847-8A54-759791A3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9AA-8FC1-4CB9-B1C1-5E843DD4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F73F-8CF8-4C72-A19B-1F1AB2B2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0827-6287-4105-AFAC-D9C6DFB3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0A82-6113-4E9E-AFEF-C1AC8D2C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179-0DD7-40CB-8977-6A4C2243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6F10-37A0-4264-BD3C-1CFD183F6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compare and contrast these two images.  How are they alike?  How are they differe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you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is the artist in each sit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lose or far away do the people in the artwork se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“real” do the people lo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guess how the pictures were made?  Do they look lik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ntings, drawings, prints or coll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1407960" cy="2189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3808440"/>
            <a:ext cx="152100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 you imagine a story about either of these artwork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your story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ction or non-fictio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it be an exciting mystery, a sad story, or a funny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names would you give the woman or w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th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uld you put into the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1407960" cy="2189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" y="3808440"/>
            <a:ext cx="152100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formation About the Art and the Arti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362320" y="1142640"/>
            <a:ext cx="632448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ist:  Mary Cassatt (Americ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44-1926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tle: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he Let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dium: Drypoint and aquat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ze: 13 5/8 x 8 5/1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te: 189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ments:  One of a set of ten prints exhibited toge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ist: Kunisada II (Japanese 1823 – 188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tle: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Fuji no Uraba (Wisteria)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llustration of Chapter 33 from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ale of Genj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dium: Wood Block Pr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ze: 14” x 9 5/8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te: Circa 185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ments:  Wood block prints helped western cultures learn about the culture of Japa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161784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2200" y="3581280"/>
            <a:ext cx="1731960" cy="24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Arts: character’s feelings, story elements, main idea/det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Studies:  roles in society, cultural con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 Art:  color, pattern, art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82760" y="990720"/>
            <a:ext cx="1795320" cy="279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97360" y="914400"/>
            <a:ext cx="1992600" cy="28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is an artwork by Mary Cassat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51400" cy="4530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would be a good title for this artwor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woman do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do you think the artist created a work of art about thi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s the setting of this artwork?</a:t>
            </a:r>
            <a:br>
              <a:rPr sz="3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your answ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woman sitting?  Is she at home or at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untry do you think may b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od of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dicated by the furniture, clothing, or hair sty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ime of day do you think it may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291312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ok very carefully at the artwork.  What details do you notic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you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ter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you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p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you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artist standing in relation to the woman?  Is the artist looking up or down at the wom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291312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does the artist want to tell us about the woman in the artwork?  Why do you think tha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04960" y="1828440"/>
            <a:ext cx="51814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her role in her culture?  Is she marr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ld is s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she have a fami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she feeling?  Is the letter about something very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mportant subjects do people write letters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52320" y="1905120"/>
            <a:ext cx="271800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another artwork about a woman and a letter. Look carefully at this im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is artwork?  Can you tell where and when this image is set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se women at home, at work, or somewhere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vidence do you see that supports your 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668760" cy="46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 are the women in this artwork?  What is their role in their culture?  How do you know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think each of them is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think they might be saying or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se women rich or poor?  What  clues do you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668760" cy="46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your response or reaction to the women in these works of a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y seem familiar or strange to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imagine yourself in either pi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imagine that these are people in your family or people you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1408320" cy="2189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3882960"/>
            <a:ext cx="1520640" cy="218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origa M</cp:lastModifiedBy>
  <dcterms:modified xsi:type="dcterms:W3CDTF">2006-10-20T15:52:41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19693459</vt:r8>
  </property>
  <property fmtid="{D5CDD505-2E9C-101B-9397-08002B2CF9AE}" pid="4" name="_AuthorEmail">
    <vt:lpwstr>Georgia@cameronartmuseum.com</vt:lpwstr>
  </property>
  <property fmtid="{D5CDD505-2E9C-101B-9397-08002B2CF9AE}" pid="5" name="_AuthorEmailDisplayName">
    <vt:lpwstr>Georgia</vt:lpwstr>
  </property>
  <property fmtid="{D5CDD505-2E9C-101B-9397-08002B2CF9AE}" pid="6" name="_EmailSubject">
    <vt:lpwstr>lesson plans</vt:lpwstr>
  </property>
</Properties>
</file>